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FB5C-40D2-4E55-BA2C-9EB7B026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492-0EA1-4505-8DE8-E29241CD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6E4-68E0-4333-A51F-F625FBAD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37B-B7DF-4BF5-ACEE-6FFB25D2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909B-328E-4375-B906-38DB2E28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CF3B-F7E3-4272-BB01-6E939D90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1D1F-2945-4658-A8FA-8CCA636C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D6B8-D0FC-441F-9FC0-EFB62EF8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F86F-324F-4C44-95EC-6F3B043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F028-70EF-4D8F-98AF-03332155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B21C-3E49-4C01-92B9-24D68B7F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A11-A34B-4367-9776-8652C657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A072-20A9-45BF-AC97-038D593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0047-4EE2-40DD-BC48-F7C0C6C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1D84-9CE6-4026-85D5-0ADA7C60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CAD2-0837-45D4-B46E-665FF911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89CA-CE3A-4B5B-B35B-1EA26FBF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8229-E062-403B-9A7D-66656951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B30-DBD2-453A-83EE-AD9FA4F4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CE9-B69A-4A82-8EBA-3DF41912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91C-5971-4002-AE48-F0E136F0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1EE-D396-42EB-9D31-60A3F02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AFD-8056-4D92-B798-C15E9C7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5A8-D38C-43A8-8E40-A9217E3F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AD16-9CC9-4659-BAE5-537EE360A85A}" type="slidenum">
              <a:rPr b="0" lang="en-US" sz="1400" spc="-1" strike="noStrike">
                <a:solidFill>
                  <a:srgbClr val="39393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9D72-5534-4712-8D6E-467D6DD87E9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93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TO EFFECTIVE NOTE 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Lecture Notes</a:t>
            </a: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breviate the following lines so they still make s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88928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when people stopped being nomadic.  With the beginning of widespread farming, people began to live in permanent villages, towns and c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were created by a combination of many factors, including the creation of a complex government and religion, a working economy, the development of art and technology and the creation of a stratified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 played an essential role in the development of societies, as natural features often determined where people set up permanent societie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457200"/>
            <a:ext cx="6019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breviation Exercise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175248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54864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60880" y="1889280"/>
            <a:ext cx="534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settlements the start of civil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lizations need: gov’t, religion, economy, art, tech.,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. very imp. in creating civil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Exerc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ould you summarize the previous no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nswer: Civilizations started when people stopped traveling and created permanent settlements and complex social and governmental institutions.  Geography played a key role in how civilizations develo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9393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acher C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8892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I know if what the teacher says is importan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on or stressed in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gets louder/softer or faster/s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ing on the board or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ill be on the test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 (hand/arm mov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importa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rnell No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thod of taking notes that helps students understand material by putting it in thei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organiz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to help students study more effectiv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y for students to control their learning by understanding, thinking about and evaluating what they’ve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teps of Cornell note ta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dentify importan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Determine relationships among items and generate questions that represent thes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Summarize the information in your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your name, date, class and period in the upper right hand corner (see ab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bcbcb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the topic of the notes (ex. Ancient China, Islam, etc.) in the top mar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72400" y="304920"/>
            <a:ext cx="914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905120"/>
            <a:ext cx="53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horizontal line about five lines up from the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vertical line down the page about one third of the distance from the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71800" y="1828440"/>
            <a:ext cx="0" cy="380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6386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8892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questions (after completion of no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words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dates/people/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/stress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/brainstorming written on board/overhead proj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rom textbook/s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nd pi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8892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do the achievements of early Chinese civilization say about what they felt was importa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Chinese ideas  about government impact their civiliz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id geography help shape early Chinese civilizatio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60880" y="1889280"/>
            <a:ext cx="534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s: silk making, the first boo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 Ching, The Book of Song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: Feudal system, stratified society, dynastic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: isolated from other civilizations; led them to believe that China was the center of the earth and source of civilization (ex. “Middle Kingdom.”)  Development of flood control which led to strong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what about the bottom of my pap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971800" y="1600200"/>
            <a:ext cx="0" cy="373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33412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belongs in the bottom spac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0880" y="1889280"/>
            <a:ext cx="534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: review notes and write a summary in your own words about the main ide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for the teacher/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odles: down here they won’t get in the way of the important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84360" y="554688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410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hinese created one of the world’s earliest and most advanced civilizations.  Shaped by their ideas of government and diverse geography, they created a society that would have a large impact on other world cul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718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61722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889280"/>
            <a:ext cx="1828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pful hints for straight A no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0880" y="1889280"/>
            <a:ext cx="534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brev., para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ymbols (arrows, circles, underlining) or highlighting to emphasize important ideas and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lines between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24 hours, review notes and develop additional study questions on the left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5040" y="380880"/>
            <a:ext cx="68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19:30:32Z</dcterms:created>
  <dc:creator>Cedar Cove Productions</dc:creator>
  <dc:description/>
  <dc:language>en-US</dc:language>
  <cp:lastModifiedBy>KOLTOV</cp:lastModifiedBy>
  <dcterms:modified xsi:type="dcterms:W3CDTF">2007-09-04T19:00:31Z</dcterms:modified>
  <cp:revision>6</cp:revision>
  <dc:subject/>
  <dc:title>No Slide Title</dc:title>
</cp:coreProperties>
</file>