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15CB-DB3D-467D-B35D-B7183AD4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FCCE-DA36-4437-90EE-9F7BF7A2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6A01-54B6-4E02-AF12-A49BAC83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D064-0B15-44AF-9E15-FCF1F1FB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CDBF-E6B0-4A10-B1CF-9C89D540E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5AF1-BA35-497F-8E5B-B915602D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64E6-B195-4341-BCE0-6F13C83D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5DF1-0D62-4E01-AC85-5A0B9BB8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2976-C909-4660-B460-5B9560B0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89FC-7E29-4B3E-9776-8CA13C71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60F0-BA98-496A-AC0D-EA7AFD57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FA72-9600-4561-917C-F9AEB104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9D7F-6A50-4C9E-A392-FA110D05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26FB-3685-4479-9E2A-B974C735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7C4A-01A7-4051-B608-B9020477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8CA4-7425-414B-87EA-9F8C62C9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E695-C018-4D2E-A0E4-5D9CFEC5E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348F-E448-4140-A38F-7A2A7CC6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D92F-232F-4450-8B32-8CE777C4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2FFE-E2BF-4BDC-99AC-CE0B6EAD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BB22-DEF0-41EB-823A-980CF7B3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882B-5A05-4C10-9811-EF1A8958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B0F0-7199-404E-B412-F61E10CE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DADA-2426-4674-9A29-349CAECB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cbc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bcbc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BBB1-162A-48C9-8419-8EF4BDAC128E}" type="slidenum"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29E4-1B83-4F45-902B-FE960180370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bcbcb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bcbcb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bcbcb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S TO EFFECTIVE NOTE TA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nell Not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Lecture Note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5791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breviation Exercise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breviate the following lines so they still make s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889280"/>
            <a:ext cx="7619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vilizations were created when people stopped being nomadic.  With the beginning of widespread farming, people began to live in permanent villages, towns and c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vilizations were created by a combination of many factors, including the creation of a complex government and religion, a working economy, the development of art and technology and the creation of a stratified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 played an essential role in the development of societies, as natural features often determined where people set up permanent societies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84360" y="5546880"/>
            <a:ext cx="672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71600" y="457200"/>
            <a:ext cx="60199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breviation Exercise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971800" y="1752480"/>
            <a:ext cx="0" cy="373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5486400"/>
            <a:ext cx="7391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60880" y="1889280"/>
            <a:ext cx="534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anent settlements the start of civiliz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vilizations need: gov’t, religion, economy, art, tech.,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. very imp. in creating civil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84360" y="5546880"/>
            <a:ext cx="672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Exerc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would you summarize the previous no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answer: Civilizations started when people stopped traveling and created permanent settlements and complex social and governmental institutions.  Geography played a key role in how civilizations develop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acher C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9718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617220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188928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do I know if what the teacher says is important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60880" y="1889280"/>
            <a:ext cx="534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on or stressed inf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ce gets louder/softer or faster/sl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ing on the board or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ill be on the test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ures (hand/arm mov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importa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25040" y="380880"/>
            <a:ext cx="686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Cornell Not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thod of taking notes that helps students understand material by putting it in their own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ay to organiz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ay to help students study more effectiv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ay for students to control their learning by understanding, thinking about and evaluating what they’ve 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steps of Cornell note ta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Identify important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Determine relationships among items and generate questions that represent these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 Summarize the information in your OWN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nell Notes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your name, date, class and period in the upper right hand corner (see abo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the topic of the notes (ex. Ancient China, Islam, etc.) in the top mar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72400" y="304920"/>
            <a:ext cx="914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nell Note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ge Se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971800" y="1828440"/>
            <a:ext cx="0" cy="3809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563868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1905120"/>
            <a:ext cx="534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 horizontal line about five lines up from the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 vertical line down the page about one third of the distance from the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5040" y="380880"/>
            <a:ext cx="686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nel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971800" y="1828440"/>
            <a:ext cx="0" cy="3809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563868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88928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questions (after completion of no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60880" y="1889280"/>
            <a:ext cx="5349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words and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dates/people/p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ed/stressed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s/brainstorming written on board/overhead proj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from textbook/s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rams and pi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925040" y="380880"/>
            <a:ext cx="686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9718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617220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1889280"/>
            <a:ext cx="18288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do the achievements of early Chinese civilization say about what they felt was importan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did Chinese ideas  about government impact their civiliza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did geography help shape early Chinese civilization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60880" y="1889280"/>
            <a:ext cx="534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ments: silk making, the first book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I Ching, The Book of Song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str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ment: Feudal system, stratified society, dynastic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: isolated from other civilizations; led them to believe that China was the center of the earth and source of civilization (ex. “Middle Kingdom.”)  Development of flood control which led to strong gover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5040" y="380880"/>
            <a:ext cx="686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5029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what about the bottom of my pap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971800" y="1600200"/>
            <a:ext cx="0" cy="373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5334120"/>
            <a:ext cx="7391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1889280"/>
            <a:ext cx="1828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belongs in the bottom space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0880" y="1889280"/>
            <a:ext cx="5349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: review notes and write a summary in your own words about the main idea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s for the teacher/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odles: down here they won’t get in the way of the important stu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25040" y="380880"/>
            <a:ext cx="686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84360" y="5546880"/>
            <a:ext cx="672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54100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Chinese created one of the world’s earliest and most advanced civilizations.  Shaped by their ideas of government and diverse geography, they created a society that would have a large impact on other world cultu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nel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9718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617220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1889280"/>
            <a:ext cx="1828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lpful hints for straight A no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60880" y="1889280"/>
            <a:ext cx="534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brev., paraph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ymbols (arrows, circles, underlining) or highlighting to emphasize important ideas and relationsh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p lines between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in 24 hours, review notes and develop additional study questions on the left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25040" y="380880"/>
            <a:ext cx="686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3T19:30:32Z</dcterms:created>
  <dc:creator>Cedar Cove Productions</dc:creator>
  <dc:description/>
  <dc:language>en-US</dc:language>
  <cp:lastModifiedBy>KOLTOV</cp:lastModifiedBy>
  <dcterms:modified xsi:type="dcterms:W3CDTF">2007-09-04T19:00:31Z</dcterms:modified>
  <cp:revision>6</cp:revision>
  <dc:subject/>
  <dc:title>No Slide Title</dc:title>
</cp:coreProperties>
</file>