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919-DF0B-4179-8F92-470B2797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D7A-A2B4-433B-8ABE-94A29E2D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611-C5E8-48C3-881F-8C115CFF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76B-86F3-4D94-8F54-7838D76F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65F6-8D06-466F-AFAA-1FAC9A9C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3D2A-AD39-4CE5-8D4F-41780AB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B3C6-2522-4344-B44C-92789451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7275-519A-4E61-A028-81F6ECB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75D3-79B0-4BE5-BE32-5B5E640A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8BA9-3BCF-4F2D-BA4C-94F6A63A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3396-CA21-4A18-A7EC-D4AABA8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A6F-205A-4E42-AFC5-19C63D1F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E11F-8A64-491C-941D-2B44ED7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C7FD-49D4-4D70-90DD-8DB7DD60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6989-3644-41C3-825C-9CA48012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0F97-278B-4F2F-9AA5-D8CF9EEF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A26-8DEC-4CCD-BB72-54755581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7D44-C71B-4C0B-9074-5B6B5B08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2A9-1732-466B-8D65-E0896EFA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5FA-312C-4B84-8E11-3AB257C2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306-CEE7-412A-A812-14F5A1CD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4D8-19A5-406D-B7D7-FB4C387D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F80-2C6B-4DE3-9561-4EBBBD7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538-8C01-4732-9CFD-7AB53E5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46F2-FC8D-44AA-A4E8-130E1159534C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E103-91BF-42C8-8088-F92DC879D93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TO EFFECTIVE NOTE 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Lecture No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breviate the following lines so they still make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8928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when people stopped being nomadic.  With the beginning of widespread farming, people began to live in permanent villages, towns and 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by a combination of many factors, including the creation of a complex government and religion, a working economy, the development of art and technology and the creation of a stratified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 played an essential role in the development of societies, as natural features often determined where people set up permanent societie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457200"/>
            <a:ext cx="6019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17524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4864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60880" y="1889280"/>
            <a:ext cx="534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settlements the start of civil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need: gov’t, religion, economy, art, tech.,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. very imp. in creating civi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summarize the previous no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nswer: Civilizations started when people stopped traveling and created permanent settlements and complex social and governmental institutions.  Geography played a key role in how civilization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C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8892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I know if what the teacher says is importan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on or stressed in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gets louder/softer or faster/s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on the board or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be on the te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 (hand/arm mov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importa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rnell N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of taking notes that helps students understand material by putting it in thei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organiz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help students study more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for students to control their learning by understanding, thinking about and evaluating what they’v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of Cornell note ta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dentify importan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etermine relationships among items and generate questions that represent thes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Summarize the information in you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your name, date, class and period in the upper right hand corner (see ab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topic of the notes (ex. Ancient China, Islam, etc.) in the top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30492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05120"/>
            <a:ext cx="53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horizontal line about five lines up from the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vertical line down the page about one third of the distance from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889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questions (after completion of no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words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dates/people/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/stress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/brainstorming written on board/overhead proj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rom textbook/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nd 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8892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do the achievements of early Chinese civilization say about what they felt was importa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Chinese ideas  about government impact their civiliz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geography help shape early Chinese civilizatio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s: silk making, the first boo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 Ching, The Book of Song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: Feudal system, stratified society, dynastic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: isolated from other civilizations; led them to believe that China was the center of the earth and source of civilization (ex. “Middle Kingdom.”)  Development of flood control which led to strong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hat about the bottom of my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16002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33412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belongs in the bottom spac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review notes and write a summary in your own words about the main ide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for the teacher/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odles: down here they won’t get in the way of the important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41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hinese created one of the world’s earliest and most advanced civilizations.  Shaped by their ideas of government and diverse geography, they created a society that would have a large impact on other world cul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ful hints for straight A no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0880" y="1889280"/>
            <a:ext cx="534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brev., para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ymbols (arrows, circles, underlining) or highlighting to emphasize important ideas and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lines between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24 hours, review notes and develop additional study questions 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9:30:32Z</dcterms:created>
  <dc:creator>Cedar Cove Productions</dc:creator>
  <dc:description/>
  <dc:language>en-US</dc:language>
  <cp:lastModifiedBy>KOLTOV</cp:lastModifiedBy>
  <dcterms:modified xsi:type="dcterms:W3CDTF">2007-09-04T19:00:31Z</dcterms:modified>
  <cp:revision>6</cp:revision>
  <dc:subject/>
  <dc:title>No Slide Title</dc:title>
</cp:coreProperties>
</file>