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61E7D-9B13-4411-A58B-1EF73630F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CBF7B-399F-438C-A452-73C628741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5B316-6883-44FF-9D96-D6502CE55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A5276-D3DB-45B4-B82B-883CEBF1B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C9DEE-86CF-4F6B-8BEB-3DD60BC37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583D0-ED93-474D-A67D-E02D7C755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CD2CE-E140-478B-A5A8-6650DA751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07A18-784A-4263-B49D-D03235800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F14AC-01A9-419F-B679-B6AE8F064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6FA86-6616-4D58-B96E-8F5E5F79B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8096D-9FA4-426A-81FD-07D469463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E1508-0B91-4739-90B2-82209549A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7C7DF-2D32-44AD-9779-FDF3570B6E02}"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F5DA13-460C-4BF6-9DBD-B9C4660BF7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Title 1" descr=""/>
          <p:cNvPicPr/>
          <p:nvPr/>
        </p:nvPicPr>
        <p:blipFill>
          <a:blip r:embed="rId2"/>
          <a:stretch/>
        </p:blipFill>
        <p:spPr>
          <a:xfrm>
            <a:off x="633240" y="2097000"/>
            <a:ext cx="7877520" cy="1579680"/>
          </a:xfrm>
          <a:prstGeom prst="rect">
            <a:avLst/>
          </a:prstGeom>
          <a:ln w="0">
            <a:noFill/>
          </a:ln>
        </p:spPr>
      </p:pic>
      <p:sp>
        <p:nvSpPr>
          <p:cNvPr id="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G Question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might be the positive intellectual benefits of ga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ight playing video games be good for your mind or your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do many people think that gaming is harmfu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5099040" cy="6040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is book is an old-fashioned work of persuasion that ultimately aims to convince you of one thing: that popular culture has, on average, grown more complex and intellectually challenging over the past thirty years.”</a:t>
            </a:r>
            <a:endParaRPr b="0" lang="en-US" sz="4000" spc="-1" strike="noStrike">
              <a:solidFill>
                <a:srgbClr val="000000"/>
              </a:solidFill>
              <a:latin typeface="Calibri"/>
            </a:endParaRPr>
          </a:p>
        </p:txBody>
      </p:sp>
      <p:pic>
        <p:nvPicPr>
          <p:cNvPr id="46" name="Picture 3" descr=""/>
          <p:cNvPicPr/>
          <p:nvPr/>
        </p:nvPicPr>
        <p:blipFill>
          <a:blip r:embed="rId2"/>
          <a:stretch/>
        </p:blipFill>
        <p:spPr>
          <a:xfrm>
            <a:off x="5487840" y="415800"/>
            <a:ext cx="3506760" cy="554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6146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fter reading the excerpts from Johnson’s book that highlight some of his main ideas, spend about </a:t>
            </a:r>
            <a:r>
              <a:rPr b="1" lang="en-US" sz="3600" spc="-1" strike="noStrike">
                <a:solidFill>
                  <a:srgbClr val="000000"/>
                </a:solidFill>
                <a:latin typeface="Calibri"/>
              </a:rPr>
              <a:t>ten minutes </a:t>
            </a:r>
            <a:r>
              <a:rPr b="0" lang="en-US" sz="3600" spc="-1" strike="noStrike">
                <a:solidFill>
                  <a:srgbClr val="000000"/>
                </a:solidFill>
                <a:latin typeface="Calibri"/>
              </a:rPr>
              <a:t>writing on the following question:</a:t>
            </a:r>
            <a:br>
              <a:rPr sz="3600"/>
            </a:br>
            <a:br>
              <a:rPr sz="3600"/>
            </a:br>
            <a:r>
              <a:rPr b="1" lang="en-US" sz="3600" spc="-1" strike="noStrike">
                <a:solidFill>
                  <a:srgbClr val="000000"/>
                </a:solidFill>
                <a:latin typeface="Calibri"/>
              </a:rPr>
              <a:t>Does he have a point or are you skeptical about his arguments?  Has hearing what he has to say changed your original thoughts at all?  How?  Support your response with specific evidence from his boo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16:28:34Z</dcterms:created>
  <dc:creator>Jennifer</dc:creator>
  <dc:description/>
  <dc:language>en-US</dc:language>
  <cp:lastModifiedBy>Jennifer</cp:lastModifiedBy>
  <dcterms:modified xsi:type="dcterms:W3CDTF">2010-09-02T15:05:33Z</dcterms:modified>
  <cp:revision>5</cp:revision>
  <dc:subject/>
  <dc:title>Everything Bad is Good for You (Maybe).</dc:title>
</cp:coreProperties>
</file>