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A728B-61B5-4C2A-AC0B-AFCE0A0C8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EB384-8284-404E-9578-7FAE6C4A8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03E60-9EA6-4DE2-BD98-9EAD0D469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BE52C-D245-4EF6-A29B-C6B3A4635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AE21C-C34B-466A-8ADE-E43836616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74C5B-4133-4EB4-8315-6916C64EC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5E4D3-3AEF-4B19-9193-5C7500440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6C4D8-3DF2-42C5-B7F0-AF78C6332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A68D5-71D9-434C-9959-2CCF0658C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7A0ED-8F9F-4FEA-9F81-5DAF691C5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0C343-13BE-49E5-9DFC-242D25D72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A3D6C-281E-49A6-8BBB-FF436459D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DBD3AEC-75CD-4C83-9C26-CE78F5EECA7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0FF6F2B-9B5F-4237-B919-37CEACF85C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10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Gill Sans Ultra Bold"/>
                <a:ea typeface="Gill Sans Ultra Bold"/>
              </a:rPr>
              <a:t>What is the meaning of “the medium is the message”?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45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Medium is the Message”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6840" y="141732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arshall McLuhan, 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Understanding the Media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(1964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44720" y="4834080"/>
            <a:ext cx="4041720" cy="325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alibri"/>
              </a:rPr>
              <a:t>Marshall McLuhan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8" descr=""/>
          <p:cNvPicPr/>
          <p:nvPr/>
        </p:nvPicPr>
        <p:blipFill>
          <a:blip r:embed="rId1"/>
          <a:stretch/>
        </p:blipFill>
        <p:spPr>
          <a:xfrm>
            <a:off x="-61920" y="2057400"/>
            <a:ext cx="5394240" cy="40402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9" descr=""/>
          <p:cNvPicPr/>
          <p:nvPr/>
        </p:nvPicPr>
        <p:blipFill>
          <a:blip r:embed="rId2"/>
          <a:stretch/>
        </p:blipFill>
        <p:spPr>
          <a:xfrm>
            <a:off x="4748040" y="1192320"/>
            <a:ext cx="3938760" cy="3582720"/>
          </a:xfrm>
          <a:prstGeom prst="rect">
            <a:avLst/>
          </a:prstGeom>
          <a:ln w="0">
            <a:noFill/>
          </a:ln>
        </p:spPr>
      </p:pic>
      <p:sp>
        <p:nvSpPr>
          <p:cNvPr id="47" name="TextBox 7"/>
          <p:cNvSpPr/>
          <p:nvPr/>
        </p:nvSpPr>
        <p:spPr>
          <a:xfrm>
            <a:off x="4110120" y="5265720"/>
            <a:ext cx="4836960" cy="1557000"/>
          </a:xfrm>
          <a:prstGeom prst="rect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Marshal McLuhan’s books are the most important on the topic of the impact of mass med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MAIN IDEA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6840" y="1460520"/>
            <a:ext cx="4040280" cy="524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very new medium changes u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enever a new medium comes along, people naturally get caught up in the information—the “content”—it carries.  However, in the long run,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 medium’s content matters less than the medium itself in influencing how we think and ac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644720" y="1460520"/>
            <a:ext cx="4273560" cy="524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ur focus on the medium’s content can blind us to its deep effects.  The content of the medium is just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“the juicy piece of meat carried by the burglar to distract the watchdog of the mind.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introduction of every mass medium spurs a polarizing debate about its advantages and disadvantage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2T14:58:32Z</dcterms:created>
  <dc:creator>Jennifer</dc:creator>
  <dc:description/>
  <dc:language>en-US</dc:language>
  <cp:lastModifiedBy>Jennifer</cp:lastModifiedBy>
  <dcterms:modified xsi:type="dcterms:W3CDTF">2010-09-02T17:13:47Z</dcterms:modified>
  <cp:revision>5</cp:revision>
  <dc:subject/>
  <dc:title>“The Medium is the Message”</dc:title>
</cp:coreProperties>
</file>