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F157-AA7F-4CE6-8630-B74FE6C0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D1FD-CED0-430E-9E85-157DC892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F7E4-5982-46A0-9197-1946BE01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DECF-E8B4-4870-82DE-0A6EC530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9408-C23F-4D83-9864-66EEFA02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D75F-60C4-4B33-ADFE-F9F4E40C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D59-DDE0-4D01-A6DE-500C6CA7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C7BA-CB3D-41CB-997C-8F979C86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B455-8CC7-43FF-A1DB-F954C7E4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826C-06DC-4A3E-9F0F-7719E1B9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924B-AA83-4AA1-9DF8-E5C6D901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E460-B08E-4299-9B21-34D39C1B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38CCC5-1893-40DB-AAAF-925DB2CF42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BFE583-31D1-493C-BAF9-619C6F9E5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ill Sans Ultra Bold"/>
                <a:ea typeface="Gill Sans Ultra Bold"/>
              </a:rPr>
              <a:t>What is the meaning of “the medium is the message”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edium is the Messag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4173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rshall McLuhan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Understanding the Medi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196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4720" y="4834080"/>
            <a:ext cx="4041720" cy="32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Marshall McLuha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1"/>
          <a:stretch/>
        </p:blipFill>
        <p:spPr>
          <a:xfrm>
            <a:off x="-61920" y="2057400"/>
            <a:ext cx="5394240" cy="404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2"/>
          <a:stretch/>
        </p:blipFill>
        <p:spPr>
          <a:xfrm>
            <a:off x="4748040" y="1192320"/>
            <a:ext cx="3938760" cy="358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7"/>
          <p:cNvSpPr/>
          <p:nvPr/>
        </p:nvSpPr>
        <p:spPr>
          <a:xfrm>
            <a:off x="4110120" y="5265720"/>
            <a:ext cx="483696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rshal McLuhan’s books are the most important on the topic of the impact of mass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IN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460520"/>
            <a:ext cx="404028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new medium changes 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ever a new medium comes along, people naturally get caught up in the information—the “content”—it carries.  However, in the long run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medium’s content matters less than the medium itself in influencing how we think and a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4720" y="1460520"/>
            <a:ext cx="4273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r focus on the medium’s content can blind us to its deep effects.  The content of the medium is jus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the juicy piece of meat carried by the burglar to distract the watchdog of the mind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ntroduction of every mass medium spurs a polarizing debate about its advantages and disadvantag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58:32Z</dcterms:created>
  <dc:creator>Jennifer</dc:creator>
  <dc:description/>
  <dc:language>en-US</dc:language>
  <cp:lastModifiedBy>Jennifer</cp:lastModifiedBy>
  <dcterms:modified xsi:type="dcterms:W3CDTF">2010-09-02T17:13:47Z</dcterms:modified>
  <cp:revision>5</cp:revision>
  <dc:subject/>
  <dc:title>“The Medium is the Message”</dc:title>
</cp:coreProperties>
</file>