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AD5-C0F1-4DB5-8439-A75B57F9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0C9-91A1-4B35-B219-896AF201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105-EAC3-46B8-9F24-BB4BA6F1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714F-9AFC-4041-9F5D-6E15CE50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9C4-1124-41AF-88AD-8429F8B3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86A-9000-4D9A-9679-7C6A8AE3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757-B769-4AC7-AD50-01FD4148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2CA-0EA4-45A9-B049-A545D298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9E0-9CF9-4A79-902C-AB2C4B58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383-1F13-4412-B347-6740DFF6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534-FC64-46C3-BD3D-F56AB06C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C0B-A76C-4872-9E43-624A3167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3DB6A5-5839-44DC-A83B-59562960DF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0222A-BCBE-402F-9F88-2D811301A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Ultra Bold"/>
                <a:ea typeface="Gill Sans Ultra Bold"/>
              </a:rPr>
              <a:t>What is the meaning of “the medium is the message”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edium is the Messag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7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rshall McLuhan,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nderstanding the Med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196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4720" y="4834080"/>
            <a:ext cx="4041720" cy="32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Marshall McLuh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-61920" y="2057400"/>
            <a:ext cx="5394240" cy="404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2"/>
          <a:stretch/>
        </p:blipFill>
        <p:spPr>
          <a:xfrm>
            <a:off x="4748040" y="1192320"/>
            <a:ext cx="3938760" cy="358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4110120" y="5265720"/>
            <a:ext cx="483696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rshal McLuhan’s books are the most important on the topic of the impact of mass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N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460520"/>
            <a:ext cx="404028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new medium changes 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ever a new medium comes along, people naturally get caught up in the information—the “content”—it carries.  However, in the long run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medium’s content matters less than the medium itself in influencing how we think and 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1460520"/>
            <a:ext cx="427356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focus on the medium’s content can blind us to its deep effects.  The content of the medium is ju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the juicy piece of meat carried by the burglar to distract the watchdog of the mind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roduction of every mass medium spurs a polarizing debate about its advantages and disadvantag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58:32Z</dcterms:created>
  <dc:creator>Jennifer</dc:creator>
  <dc:description/>
  <dc:language>en-US</dc:language>
  <cp:lastModifiedBy>Jennifer</cp:lastModifiedBy>
  <dcterms:modified xsi:type="dcterms:W3CDTF">2010-09-02T17:13:47Z</dcterms:modified>
  <cp:revision>5</cp:revision>
  <dc:subject/>
  <dc:title>“The Medium is the Message”</dc:title>
</cp:coreProperties>
</file>